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406-E1C0-48A9-A9ED-BA9CDCE6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BC9-11A2-458E-9D10-84A1C033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1AE45-D35C-4DD3-98B9-D0BBDC0B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EA2F8-7AE7-45C5-A42F-4EC4383B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23366-577C-4262-8E7D-95313BAE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403A2-37B7-4CAE-9785-24BB141A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235DB-D884-4377-BA75-51FB1D3D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04449-9FD3-4B4E-9B3A-E537695F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FE68E-55E7-428E-AC91-DEFC658B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75E9C-ACE9-4421-B1B0-0606FE7A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819B5-5E0F-455A-AEEA-6F35D28C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96938-F7B6-4C6B-A867-59B0D183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A04-F520-42AC-8885-4ED11019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07716-4F41-4D5C-A972-88B20DAE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861C8-ECB4-424E-BC3D-933EBAAB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32707-6D91-42BA-B4BB-A0400763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85D93-68A6-4F9D-88D1-7ED8842B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C5439-B40E-4351-AA2B-2B18E160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4C54A-9062-427C-9155-97F73978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7AFF5-23F7-46CC-BB3F-34C70C37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C0C71-DAD4-45D9-965C-BAC20348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897FC-4BB0-4268-A923-F5F7726A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B5E21-9A8B-4C3F-96D5-17D8FFEA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48A-D4DB-41E5-BBC5-AB96C5AB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3B071-C649-4AA5-9EBD-1F748BD2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0E833-A4F5-438F-A8D7-DABAB9C7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AA848-C0A7-4521-8AB8-8088BA3A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8DEC2-BD11-4937-AF66-5629FCDD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5F5D8-BBE6-4BFA-8577-0F0B8FF8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394C1-68C5-41E9-8584-71452DD5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AF3D4-41D3-4B75-95EE-BC5F1311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2FB66-B869-43A6-99E4-684AB3F4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AB44C-9A6B-4B32-8CEC-B78D785F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19CC4-0AC8-4A72-9110-7FA20FB8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9EEF-7933-44C7-993B-866F0DA4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16926-A52D-4080-B96B-018229AA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D2D25-D853-4C6C-A7AC-18568F63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36C8F-D291-4347-8013-C3EF98EA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99027-4284-4922-9267-174EAC3B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8D114-BF71-4C3C-9AEB-A0780181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406E4-5A2F-45A0-9C02-B3A1D284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0CA8D-CBCC-49FA-A892-28D03B9F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B2963-A66E-418F-84B4-D72DC5F9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5B4D7-17E2-4CEB-A5F7-8C7B526D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A9CCA-61A7-4DD3-AAE8-E5A71E93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18B7-7F3F-4E67-977B-EBEE8AC6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A1AC3-7BB3-42C8-878F-07A2748A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3B915-2D33-4847-9B54-4824A3A9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400B2-7628-4F11-8921-124ECA8C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26989-B987-4F45-BB7F-2198C6A9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944BF-2485-4063-9F65-FF632E41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5093E-0481-45E3-92E4-79D6B6C5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AB803-5D2F-4CD8-A430-562C9959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12B9E-E763-4D1A-A9CC-4E432D21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7EE79-F67E-4B10-B301-58D8A2AA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A2687-565D-4FAC-8CDD-463F4C60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69C0-B876-4974-A3D0-9D92314B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4804B-24BB-4303-8924-085AFB07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318BE-FB4E-47D0-8779-B9C58415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3B38C-0356-425E-B32F-9A3D239F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0F083-EFDC-4278-89D3-1A49664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298AB-4B10-44C1-A597-61C96D2F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EF9C2-2E0B-4E9B-8497-B483AEAA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A87BC1-0E47-43E2-845A-F1EFF79C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075C10-3C4F-4CCB-AB40-BA101AA6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6F5B2B-84C0-4528-BCFB-0F886C7C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6EEDE7-05ED-46A6-AB57-B9CE34EF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F11F-4196-406C-BA46-A6A98065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063FCC-EEFE-4BBA-BED4-BDA3D6E9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36EA0C-C51C-4F14-98A4-448397DF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C12C82-D244-4A67-BBAF-8DA65143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B81104-69DC-43FC-BF1F-0ED78F11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F12965-063C-48C4-A396-A11743A5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1DC799-233C-42C5-966C-6122F921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733FEC-8C3F-41D4-92C1-696FD5A1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6B0F9A7-9277-428E-883E-0D8BAB7A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7ED71F-AE62-457B-A67E-3F5CD2D2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60763A-8462-47B7-B059-590C7F8A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66AB-8806-4C4F-B696-31C50BA4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2C315A-300C-4F82-AAA7-85DF773F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CBAA01-DB86-4BAB-9A19-0181AF48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DFDCD9-7151-4D27-8EAC-5A6B999B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2BFD32-5183-43EA-AE37-ACCE84F2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8E49DB-E5EA-467D-AF5F-9B23B040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01299EC-4B8B-4AB4-9C9B-E4D01D32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53CBCD-12E4-4949-93E5-3709A95C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9E85A6-3464-476D-8391-5F69939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6275D4-47EB-4CAE-B7AE-2E761547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1E3796-6531-43FC-9D59-5DFA489B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E58E-667D-4D9F-83E2-53B1C6ED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FAE04A-12CE-49D0-998B-FC18158B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998F3A-3F35-466C-9857-BEBF270D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B955E-5771-4D91-8323-4C22CA8C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CD788C-F0D0-46B8-BBB8-03012206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E6CE26-DB87-486B-B813-CFE9C45F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F528AA-83CC-4C11-85BB-F9586178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53CB08-33C2-48B5-8E43-5240286C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DCBC27-0FE4-4653-91A4-067E0E67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5F812-4C58-4758-93EE-D1A05C34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A8BC11-1F0E-4900-80C3-3E650220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9B21-5514-4F99-A155-EE5D7EF6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69FF3-128A-46F5-9793-81585270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7C218-D25C-4CF8-8825-671AA971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F1A1E-0431-4D05-A419-A9CBCD9D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FA6-8342-4DD9-A40C-A61C5BDA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61D5-9F4C-420F-A46C-50D5B707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27A9-1188-4F81-AE90-ECCE114D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4B08-3B46-40C0-90EF-7AD3BC4F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B1A0-20D7-4A3B-88DF-1B400BCD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4B7B-D547-4BD5-9F6D-E5CAD12C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7DA7-D058-4804-907C-D9652FE6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AE509-88CD-4963-AE62-8DCA1148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2E53-EF3F-420F-8893-77EAD7AF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4DC6F-66A8-419C-8C13-CE90ED85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0053-EAEE-48A9-AC66-5728767B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63A-356F-469A-8B2C-F4DA076E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391AB-8EAC-4AF9-B93D-205650CB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51B09-A881-443F-8836-9DF3015A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16268-8DCC-4358-BC4B-2C6F46BB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4E690-2EF8-4370-B9C2-2DE26C26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4230C-8AC8-410F-BFBE-1D23CBDC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BCBDC-91F9-4710-9DE1-C7A66614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EC367-EADC-4083-8577-C079435B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DEB6A-45A4-455F-BC90-95B2ADF6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81F4F-4CF4-46EB-B251-69DAAA2B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9192F-4039-4245-9553-F381DCA7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C88-9FFF-4D8A-A0CE-29DE9FC4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B5F44-30B8-4D1C-93BB-8439A19F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7CB06-A505-44AC-A870-C2B50F5F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99C47-2DF6-47B0-BD73-FCF439DC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D2236-C75E-49F4-973D-6D4921DC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BC993-775B-4FAE-B082-010FD17A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7F4E-A756-4391-BB89-595A5E93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1B6E4-76E2-474E-8B31-BFAC8FA9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DD5E2-3F9A-4360-969A-C1CB436F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911EC-4E9A-4B3F-9A80-2B7FB0AD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ED675-2211-4A7B-B444-2209F441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0FB-AF90-4CB7-91ED-46C87131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62197-1E31-4794-BAA7-E4E56B70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559BE-2D15-45B5-80A0-72C8F2A9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87408-AA97-4496-B615-9290280F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549DE-24E3-48E5-BF63-1DF22C3E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F6A05-B180-48A0-9429-1A49AC3A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CAAD6-1AD2-4ACA-9ADE-B2864F04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F5A40-D2A0-4870-92BD-F23E413B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3D54D-229B-4836-891F-3B4336F1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A637D-3E80-4950-9623-49601570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C6DC8-3DC7-40D5-B616-FA64B7A2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B5D-74BE-4620-B6E4-6583BA0B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2CB81-E615-4675-A3B7-431570B2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DB23B-4A8B-46D4-A872-E57BD7E1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41AD4-8B86-4E98-8BFC-0EE3B6F4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07D61-61CC-4C3C-A46C-F729FDB8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72EED-E2E3-4843-A630-C5BB8CD4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E7342-EE42-4A17-863B-F947A05D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A80E7-C476-4A4B-8462-38BFD36E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ED100-7889-4DAC-9AEF-6E714A44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AA206-98B5-4CD1-A456-4692F861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F87F7-5F6D-4A7B-8017-1ED8867B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9C3-D3CD-4D56-88F1-96824781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64EA8-23A5-422E-B058-0BB27D07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9F56C-C7B8-4BC4-B60B-D2510A36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D1F00-A37C-4ADE-B60D-D3390DD2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BFDC3-ECA0-47AC-B564-E2CF7A1B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05C3E-5FBD-4489-8463-C8F97EB5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3885F-CBA2-48FF-AC35-9407A1E9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28F69-FB99-4DE2-8654-F84D3929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FED72-3D60-402D-A720-50928383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C3781-EE5D-47D8-9553-E64ADF4A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8A2DA-2DF7-4D11-82F1-66C3EF10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9C0-2851-44D4-9B92-B214F758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B68E3-8F94-4360-96D1-3BBCB3C3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74AA7-3CA2-4926-8D81-6B6EE871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210F6-1F57-413D-8C55-B8B60898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170B5-B992-4CC1-943A-3B41F8AD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36702-C110-4578-81F7-ED01DC54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0C098-84BE-48DF-8B34-0EA773C3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2CB2E-3185-4376-9157-AC60A3FE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B46A1-AA12-4AA9-85EF-B86EB5BE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EA83A-2839-4F76-9152-CB8AB37B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C44D3-0889-4C52-980F-D60F0303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07E-71BD-4B70-8CF4-7FBD2829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F172C-88A8-43E5-80EE-AC0C6BCE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9926B-2D1E-493F-A88A-928AB9B7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56CEF-9B44-4D80-B004-D8FC49FF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5A328-AC1A-4075-B780-0A1543D0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4B4C0-364F-4489-912C-6A20BB49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17FE0-D410-4F96-BBF2-CF821A6D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C0262-4AC8-4E06-A789-E8B5F04C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69D93-50CC-46D1-A95D-22CBFD00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999C9-7D11-413A-932C-2587AB86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459F5-3C53-45A6-BADB-198EE07B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DF68-D243-4387-A81F-11241AC36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2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2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3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3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2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3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E308-1899-4636-8843-3E832AA7293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7BF2-3D85-4D54-92B0-AEC5385DC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9FA7-D53E-4C15-B029-BDCA616F4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8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8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8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0BB3-5427-4C3A-A35F-E6F2981C89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93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94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94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5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581D-7A34-4372-8784-686FD1D21C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9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6D47-439B-4539-B778-39A6F3A0F42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6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69E8-36A2-4383-ABD2-D4A9F1059AF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79AC-9B3A-4CD4-BA6F-EEF5E8654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8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2C62-C7D5-473E-A588-089DFF4A96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3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BECE-DEFB-4F4A-8FDE-18C9815DE1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2E89-3E79-4521-8DD4-119A97BFBE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2AE3-43E8-4AE6-9E75-868A8D9F1C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07B3-7C97-4950-9C10-2F119DA653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E5AA-2524-412E-8BD2-4DC046873B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4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4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5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5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6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4D8B-EBDC-498C-B610-17464B0E2AE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hyperlink" Target="http://www.google.com/imgres?imgurl=http://www.lykhin.com/mobilephoto/wp-content/uploads/2007/11/sbsh0225.jpg&amp;imgrefurl=http://www.lykhin.com/mobilephoto/belgorod-russia-central-market/&amp;usg=__jwqR8gqz3ojPQrnDU-TKswrkg1U=&amp;h=338&amp;w=450&amp;sz=154&amp;hl=en&amp;start=2&amp;zoom=1&amp;itbs=1&amp;tbnid=Ssk1JMEe3gdh9M:&amp;tbnh=95&amp;tbnw=127&amp;prev=/images%3Fq%3Drussia%2Bmarket%26hl%3Den%26gbv%3D2%26tbs%3Disch:1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nap ITC"/>
              </a:rPr>
              <a:t>Russia’s Econom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nap ITC"/>
              </a:rPr>
              <a:t>By: Mario Ragusa, Alex Huynh, and Fiona Schmid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Ravie"/>
              </a:rPr>
              <a:t>Problems/Solution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Proble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focused on heavy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ad older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Solu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shifted to light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igh-technology industries have appe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596960" y="30193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empus Sans ITC"/>
              </a:rPr>
              <a:t>Important parts of Russia's econom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Gold and fish are both found in South Eastern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Coal is a major resource and is found in the cold parts of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Russia is one of the leading oil produc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1904760" cy="214920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4"/>
          <a:stretch/>
        </p:blipFill>
        <p:spPr>
          <a:xfrm>
            <a:off x="6553080" y="18288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5"/>
          <a:stretch/>
        </p:blipFill>
        <p:spPr>
          <a:xfrm>
            <a:off x="6553080" y="39625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Juice ITC"/>
              </a:rPr>
              <a:t>Command V.S Free Mark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Command controls what you sell and the price of your goo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Command economy has impacted a few countr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Free Market lets you choose the products you sell and your pr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A lot of countries have free market econ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3" dur="2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ussia’s type of Econom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ly Russia had a command and globally isolated economy. There was many people in pov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 Russia is more based on free market and globally integr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301680" y="3963600"/>
            <a:ext cx="8540640" cy="213516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4343400" cy="213336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3962520"/>
            <a:ext cx="41814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Russia’s Grow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Russia has increased in wealth  since the economic crisis of the fall of the Soviet Un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They changed from Yeltsin years to Putin year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46879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Important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Getting to the materials In Russia is difficult because Serbia is mostly undeveloped because of its clima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Russia exports petroleum, natural gas, wood and meta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Kristen ITC"/>
              </a:rPr>
              <a:t>CREDI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Designed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yped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Research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ponsored by breakfast, lunch, and din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1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1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9:53:25Z</dcterms:created>
  <dc:creator> </dc:creator>
  <dc:description/>
  <dc:language>en-US</dc:language>
  <cp:lastModifiedBy> </cp:lastModifiedBy>
  <dcterms:modified xsi:type="dcterms:W3CDTF">2010-12-20T14:10:06Z</dcterms:modified>
  <cp:revision>12</cp:revision>
  <dc:subject/>
  <dc:title>Russia’s Economy</dc:title>
</cp:coreProperties>
</file>